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D7B0-37BF-4C04-A69F-EE663783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3EC-5A3C-46AE-B1C8-818CC289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21BF8E-6D87-444F-AB28-B6716C9B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EF40FC-6D84-46E3-ADC9-EEF71C27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814777-5932-4AC2-BAFB-9F837D9B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3DB7B5-BFCA-4424-90F4-74A16EED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251234-6537-4DEF-8847-9F3F6A62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D638E5-C1AF-44CA-A0F5-37D1BE80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E1C519-1534-48ED-B6A1-25FF7A4A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D6A8AF-9D29-43CC-881A-E0428B39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E95329-B859-454D-8AF8-F2270480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26F-D5CA-44E4-BD5E-4EFEF116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856-7E07-4241-BD78-5224C7FD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D28B5-6516-4079-A5F5-0EA189C8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BADE3-06CF-4C37-AA6C-FE3AD1F9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DEB55-970E-4113-933C-D00F26E0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EC9B2-BAD4-4C38-9A2F-F42A0C12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7CA96-314A-4297-968C-4317442B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D3DC1-D314-4C65-A924-E9D8A175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8027A-CCE3-454C-AF17-73854BD6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1B2-48DF-426D-9B84-585F02F1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43767-AE62-4318-9F24-60EDE0AD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96C65-1C2E-4ACC-B178-C82E8A57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FC9CA-5A78-465D-98BB-DCE73F08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FFD56-AC12-4153-9C51-26222720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B4D41-62D7-42A8-9CDD-AAB8C657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DC86-15CE-4854-829B-A5EDF650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1383E-C7C4-4C97-94C8-F12FCD6A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4F544-F024-4D9E-90D1-E6253EC7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E7C1A-53B1-43F5-9824-AF8EE7D8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AD759-2F5F-4EA5-BD8C-EFDFD7D9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501D-A0DB-46DE-898A-DE791D62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6CE03-2A5F-44ED-9DBC-E2D18AD2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5E31F-D2F1-4541-A926-064D896A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3E3BB-E482-4CEF-9B67-5A1C4636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B4E6D-DA30-4A7A-8D08-49F8E1F2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B4C2D-59D8-4C27-930B-EFE1A6A2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629C3-2CF3-453D-A9A6-663B6B91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010ED-F1EC-45FA-AC93-F221645E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D98264-BD97-4ABE-A28A-4136C967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C62ADC-ECDD-4031-9442-85A56832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548B1-81F6-44DD-9A62-A5B07DF1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B5B-2CE4-48A7-BBFA-3BF5E8CF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52250-D07B-439A-9D4D-A067C8E7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DD3522-D45E-45F5-B880-A2CBD41E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919C4A-2133-46E6-871F-C428C204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2573E7-F241-4052-91EE-D563394B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626FC-8DD3-4C52-976B-56041775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EDA61B-D45E-47C7-9727-C5B36471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24B1F5-2FD8-4293-8BCB-065B3FF6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43EB0-28FB-4AE0-980C-09BF5B5C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CA5F5-AEEE-4063-9924-FA149384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A1823-CA19-4BEB-A5F1-34D4539F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003-77E7-4731-B9C6-DD8DBE18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25C64-55C5-4F28-A5CB-B2BB1828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D0B80-DF91-4670-B137-D950ECB4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E3244-7018-4A7A-B17C-1AC9E152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A1824-648F-4B17-ABCC-0D8F2AAB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4E989-6CD2-470D-AD38-262E80D9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7B533-99A4-46B5-9C7D-EE7C4D80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AC52C-61E3-40B9-9269-9CBF01B1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4354C-D873-44FC-BB04-452BD2A1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2137F-E396-4F18-A011-7FE3F176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1DB6B-D5DB-435B-B78C-7349CBED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32F-9500-494D-8CCA-A9A5403A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BFC52-E7AC-4E18-AD9D-8F5ECD35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F658D-DDA8-4468-BCD5-13F04303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68A60-9545-416E-9589-71A66856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D0669-3382-4A54-B730-CDC51F4A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BD73B-451B-4867-B5D3-62D3E572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79FC5-EBA5-483C-A1DF-BC423869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8BBEA-E442-4A23-8A80-E6802907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D9F83-0744-4CBF-92F3-B154688E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55B71-F3FB-4F4C-96C1-830D6FBD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4AF28-5D66-40E8-8040-E9ECFBA0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63D-8D6A-4D51-9E1C-0C7FE8A0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B5F98-BA91-4992-981A-C6E203B0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91637-2C9F-4003-9470-8062845F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C453D-31F2-4DAB-8A37-A2C36433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DF7B3-0CF2-4F2C-B56F-8F974906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A8749-C06D-4B0F-B32B-4783D6DB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CA837-FF4C-443C-B39C-73E915A1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A9068-E6FC-4824-AFEC-C7BFADFC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3076C-AE29-42AD-9846-F8CADBC8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36E31-6DFF-479A-84C9-3FEE924C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50538-2543-4FF3-84A5-B5F7184F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23A-7FE7-4B77-8975-46083912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9304F-5883-4D39-824E-47F43003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9DD35-2917-4239-88B4-C70E654D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DAD63-08B1-429E-8928-436B2CD1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66A3A-0E22-40C3-8288-8C5271CB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A3576-E486-4890-BA62-2346F64C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08AAAF-A50E-4DE4-A72B-398FEF8E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F6FE10-FF36-4F99-AA80-EEC87541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22CBC3-7FB9-4680-B8D3-60A3FEA4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15B1B7-4953-4F0C-AE0E-0C034FB9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321D2C-4F7D-4FCC-A048-26862C80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B14C-CE20-46CF-BC1E-CAF4D5AD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242BAE-35D3-4E58-98FD-83A5CEAF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9EBC68-44C6-4EA7-AF2A-279DA53D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B3AA05-7843-4685-AA91-8CD6BBF4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C4BDD3-F94B-4044-A902-69B1A8CB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24FEEE-1169-4F0F-8E33-085C60A9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BD8F1C-CA72-4D80-8732-A5764A04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AEF1CF-0B3D-46D6-A349-519D2D3B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EEF467-E638-4C31-A231-B340133A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C7E0EE-2D98-4FB3-98FC-D3678993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BC6E12-2EBB-4899-BAC7-FB0B2316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6362-31F8-4588-8E1A-BE3ED70EEE3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9439-66C9-4BE5-A2FB-F93E253ED58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0D22-F0B2-43DF-9748-72D63CEDFA4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2621-9412-40F1-A965-46B79EAE20C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62DE-1B0A-4671-81A3-31CF65CBF34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8210-C1C9-4714-B36B-812AC4E7869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B6B5-3EDF-4ED9-A8D1-DDEE566DDFC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29DB-A091-4472-B3E6-B7D7F0805E7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00EC-5390-4DEF-865E-D9768235BC7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http://upload.wikimedia.org/wikipedia/commons/6/6c/USS_Bunker_Hill_burning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By: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Brandon Lowery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Sara Weber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Laura Mansfield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Anna Carias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Picture 4" descr="http://www.english-online.at/history/kamikaze/american_ship_hit_by_kamikaze.jpg"/>
          <p:cNvPicPr/>
          <p:nvPr/>
        </p:nvPicPr>
        <p:blipFill>
          <a:blip r:embed="rId2"/>
          <a:stretch/>
        </p:blipFill>
        <p:spPr>
          <a:xfrm>
            <a:off x="0" y="4327560"/>
            <a:ext cx="3648240" cy="2530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638360" cy="20764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www.religionfacts.com/shinto/images/shichi-go-san-boy-kyoto-heian-cc-kamoda.jpg"/>
          <p:cNvPicPr/>
          <p:nvPr/>
        </p:nvPicPr>
        <p:blipFill>
          <a:blip r:embed="rId1"/>
          <a:stretch/>
        </p:blipFill>
        <p:spPr>
          <a:xfrm>
            <a:off x="0" y="0"/>
            <a:ext cx="227808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http://news.xinhuanet.com/english/2008-03/15/xinsrc_552030515101915605481.jpg"/>
          <p:cNvPicPr/>
          <p:nvPr/>
        </p:nvPicPr>
        <p:blipFill>
          <a:blip r:embed="rId2"/>
          <a:stretch/>
        </p:blipFill>
        <p:spPr>
          <a:xfrm>
            <a:off x="2133720" y="3733920"/>
            <a:ext cx="4624200" cy="3124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ttp://www.inukshuk.com/images/anoee_family_bw_sm.jpg"/>
          <p:cNvPicPr/>
          <p:nvPr/>
        </p:nvPicPr>
        <p:blipFill>
          <a:blip r:embed="rId3"/>
          <a:stretch/>
        </p:blipFill>
        <p:spPr>
          <a:xfrm>
            <a:off x="5562720" y="152280"/>
            <a:ext cx="3419280" cy="27180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7"/>
          <p:cNvSpPr/>
          <p:nvPr/>
        </p:nvSpPr>
        <p:spPr>
          <a:xfrm>
            <a:off x="2286000" y="1522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Sen Jin as a young child.</a:t>
            </a:r>
            <a:endParaRPr b="0" lang="en-US" sz="1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TextBox 8"/>
          <p:cNvSpPr/>
          <p:nvPr/>
        </p:nvSpPr>
        <p:spPr>
          <a:xfrm>
            <a:off x="5638680" y="2895480"/>
            <a:ext cx="31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Sen Jin and his Family.</a:t>
            </a:r>
            <a:endParaRPr b="0" lang="en-US" sz="1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TextBox 9"/>
          <p:cNvSpPr/>
          <p:nvPr/>
        </p:nvSpPr>
        <p:spPr>
          <a:xfrm>
            <a:off x="3048120" y="33526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Sen Jin and his classmates. </a:t>
            </a:r>
            <a:endParaRPr b="0" lang="en-US" sz="1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http://1.bp.blogspot.com/_gRWMZ-x-wV0/SbGjK25-h8I/AAAAAAAAECY/5sZhFDeXb-s/s400/Kamikaze2%5B1%5D.JPG"/>
          <p:cNvPicPr/>
          <p:nvPr/>
        </p:nvPicPr>
        <p:blipFill>
          <a:blip r:embed="rId1"/>
          <a:stretch/>
        </p:blipFill>
        <p:spPr>
          <a:xfrm>
            <a:off x="609480" y="0"/>
            <a:ext cx="3810240" cy="3133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http://hansimann.files.wordpress.com/2009/06/kamikaze-martyrs.jpg"/>
          <p:cNvPicPr/>
          <p:nvPr/>
        </p:nvPicPr>
        <p:blipFill>
          <a:blip r:embed="rId2"/>
          <a:stretch/>
        </p:blipFill>
        <p:spPr>
          <a:xfrm>
            <a:off x="2666880" y="36576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soldier must make loyalty his obligatio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soldier must make propriety his way of lif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soldier must highly esteem military valo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soldier must have a high regard for righteousnes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soldier must live a simple lif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Microsoft Flight Simulator 2004 Addon - Japanese Navy Mitsubishi A6M2-21 Zero screenshot 2"/>
          <p:cNvPicPr/>
          <p:nvPr/>
        </p:nvPicPr>
        <p:blipFill>
          <a:blip r:embed="rId1"/>
          <a:stretch/>
        </p:blipFill>
        <p:spPr>
          <a:xfrm>
            <a:off x="380880" y="0"/>
            <a:ext cx="3581640" cy="2689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http://farm3.static.flickr.com/2430/3567784834_8d7e801c34.jpg"/>
          <p:cNvPicPr/>
          <p:nvPr/>
        </p:nvPicPr>
        <p:blipFill>
          <a:blip r:embed="rId2"/>
          <a:stretch/>
        </p:blipFill>
        <p:spPr>
          <a:xfrm>
            <a:off x="342900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contrailscience.com/wp-content/uploads/boeing_b-47b_rocket-assisted_take_off.jpg"/>
          <p:cNvPicPr/>
          <p:nvPr/>
        </p:nvPicPr>
        <p:blipFill>
          <a:blip r:embed="rId1"/>
          <a:stretch/>
        </p:blipFill>
        <p:spPr>
          <a:xfrm>
            <a:off x="0" y="0"/>
            <a:ext cx="3584520" cy="2819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http://t2.gstatic.com/images?q=tbn:LXw-5vyuRcWr8M:http://www.hightech-edge.com/wp-content/uploads/mitsubishi-zero-sen.jpg"/>
          <p:cNvPicPr/>
          <p:nvPr/>
        </p:nvPicPr>
        <p:blipFill>
          <a:blip r:embed="rId2"/>
          <a:stretch/>
        </p:blipFill>
        <p:spPr>
          <a:xfrm>
            <a:off x="6019920" y="304920"/>
            <a:ext cx="2876400" cy="1809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http://hsfeatures.com/features04/images/A6M2_1.jpg"/>
          <p:cNvPicPr/>
          <p:nvPr/>
        </p:nvPicPr>
        <p:blipFill>
          <a:blip r:embed="rId3"/>
          <a:stretch/>
        </p:blipFill>
        <p:spPr>
          <a:xfrm>
            <a:off x="1143000" y="3733920"/>
            <a:ext cx="6095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http://wgordon.web.wesleyan.edu/kamikaze/films/tokyofile212/image2.jpg"/>
          <p:cNvPicPr/>
          <p:nvPr/>
        </p:nvPicPr>
        <p:blipFill>
          <a:blip r:embed="rId1"/>
          <a:stretch/>
        </p:blipFill>
        <p:spPr>
          <a:xfrm>
            <a:off x="1676520" y="1676520"/>
            <a:ext cx="54036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gadabyte.com/ww-ii/images/pacific/air/okinawa.jpg"/>
          <p:cNvPicPr/>
          <p:nvPr/>
        </p:nvPicPr>
        <p:blipFill>
          <a:blip r:embed="rId1"/>
          <a:stretch/>
        </p:blipFill>
        <p:spPr>
          <a:xfrm>
            <a:off x="0" y="0"/>
            <a:ext cx="2211480" cy="26668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http://www.chinfo.navy.mil/navpalib/ships/destroyers/dd724-laffey.jpg"/>
          <p:cNvPicPr/>
          <p:nvPr/>
        </p:nvPicPr>
        <p:blipFill>
          <a:blip r:embed="rId2"/>
          <a:stretch/>
        </p:blipFill>
        <p:spPr>
          <a:xfrm>
            <a:off x="1066680" y="4562640"/>
            <a:ext cx="6172200" cy="22953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http://www.english-online.at/history/kamikaze/american_ship_hit_by_kamikaze.jpg"/>
          <p:cNvPicPr/>
          <p:nvPr/>
        </p:nvPicPr>
        <p:blipFill>
          <a:blip r:embed="rId3"/>
          <a:stretch/>
        </p:blipFill>
        <p:spPr>
          <a:xfrm>
            <a:off x="3657600" y="152280"/>
            <a:ext cx="430704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5:23:42Z</dcterms:created>
  <dc:creator>Installer</dc:creator>
  <dc:description/>
  <dc:language>en-US</dc:language>
  <cp:lastModifiedBy>Information Technology</cp:lastModifiedBy>
  <dcterms:modified xsi:type="dcterms:W3CDTF">2010-02-10T16:06:35Z</dcterms:modified>
  <cp:revision>8</cp:revision>
  <dc:subject/>
  <dc:title>"One Man One Ship"</dc:title>
</cp:coreProperties>
</file>